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5B15-9B30-4395-ABFC-F725AB33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you had to change web pages weekly or dai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C62-5BC6-45CE-8A91-61FF7ECA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0D7-C070-4728-B3C6-6E263816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S has more than 100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SS Style consists of one or more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styles is called a style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3BD-CB96-4CBC-8620-E560FE96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F26-ADD4-45DA-8992-8FCCEAEE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C67-CA5A-4142-9A56-ED3B7064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828-C036-4C81-8AFF-B01DF423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478-88B9-4C05-ADF7-2896FDAC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8A03-CDCB-40BF-9FB3-0B0D51F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CFBB-B24B-4CA1-998C-951F81A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8882-5E9B-498C-8B53-650BD090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0BA-D42E-46BD-ACD8-EA99C62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E12E-91DE-4635-8864-DECC7D14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C564-4316-4C85-B1D5-C85FC15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7C0-AECA-44B3-B43F-6D00B82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B3F-6EDB-4344-9863-8A270B62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455-B14A-44D1-8D71-665B917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A14-F4C5-4225-97AE-E7CA244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08A6-277B-48DD-9285-02A9579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3111-008F-4DC4-9F1F-0155C07E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0907-1442-4D1F-8D8B-A3B73C38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C4E34-7CD3-4E69-9922-2565699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4C2C4-E90D-4D09-A3C0-02DACB99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970EE-02A1-4E6D-96E5-13F42A8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8833F-882E-4D3F-B0C6-A9B8ECF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FEB1D-B82E-45A9-A69E-815588ED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C3F-BF5F-4D58-91C5-8CDFEBD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F3CA9-B334-48E4-B2E5-B28BCCA1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4517A-7712-450E-8A3B-1BE5343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01753-4A36-4751-B88A-2D570BF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BB675-2DB3-4B90-93A4-774B5DAB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C7AA7-33F0-48EE-9BAD-6F9AD7A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89A71-413F-41CF-A0F8-808F98AF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A31AC-73C6-41B4-A573-9B1EC3F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B94C-B7BF-43BF-812D-2C388D8B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3442-886A-47CC-8C5D-C557C6D0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FF2F-83CC-4829-87F1-9A52D57F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517-ED6F-4B7A-B947-2CE084C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B674-CF44-4E1E-8C8E-6F2485C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26E6-0AFB-4590-93DC-E42D8A9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43E9-1B22-47A6-A0E0-09021C3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91D8-5F2E-4E3A-BB18-EF5EEE2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A63A-725C-4D29-8460-2361607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D6EF-50A0-4D58-B143-6E944E5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7D19-9723-44CF-8B21-4CEDE837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F191-CD65-438B-8F05-C972300D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9988-7664-4E21-86E9-DE3C40DA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5B7-B523-49D4-82BE-1FDD1554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FDC-D7FC-400E-B20E-9025038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A1C-69A0-48C2-BB23-219C26C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E84-8D83-493C-A01B-03358BC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9E8-0BA3-4089-A832-389A8B3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2F7-15E7-4236-9BB4-B20DDB2603B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EBF1-BC1F-4BB6-9A7F-99CF4FB3394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59D-3E45-4449-8B35-93F31DF29B0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AA7-7BA0-4504-9B8D-226D6C7C6DF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ss.html" TargetMode="External"/><Relationship Id="rId2" Type="http://schemas.openxmlformats.org/officeDocument/2006/relationships/hyperlink" Target="file:///external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3schools.com/css/css_reference.as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ascading Style Shee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CSS Sty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line: written in body of document within tag, affect that element only (defeats purpose of CS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lt;body style=“color:yellow”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lt;p style=“text-align:center”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Embed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SS style in &lt;head&gt; section using &lt;style&gt; tag, affects single document (Intern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Exte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SS style in separate file from html code, many web pages can link to one CSS f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CSS Referen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dy properties: backg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xt properties: color, alignment, indent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nt properties: size, family, weight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k properties: color for lin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k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isi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c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v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st properties: list item mark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bl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ML designed to define the content not the format of web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HTML to add or change formatting is tedious (direct formatt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3C  created C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move the formatting from the p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SS defines how HTML will be display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dvant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ls browser how to display HTML el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reater consistency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sier to modify co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ore flexible format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S allows you to format documents in ways that you cannot when you use HTML on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HTML, a style language for t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SS Syntax - selector {property:value;}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electo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HTML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Proper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tyle attribute you want to ch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how element (selector) will displa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{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font-siz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24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y and value pairs called 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ector, property and value called 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8" name="Straight Arrow Connector 4"/>
          <p:cNvCxnSpPr/>
          <p:nvPr/>
        </p:nvCxnSpPr>
        <p:spPr>
          <a:xfrm>
            <a:off x="1522800" y="2666520"/>
            <a:ext cx="1600920" cy="16009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29" name="Straight Arrow Connector 6"/>
          <p:cNvCxnSpPr/>
          <p:nvPr/>
        </p:nvCxnSpPr>
        <p:spPr>
          <a:xfrm>
            <a:off x="2209680" y="3123720"/>
            <a:ext cx="1905840" cy="1143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0" name="Straight Arrow Connector 8"/>
          <p:cNvCxnSpPr/>
          <p:nvPr/>
        </p:nvCxnSpPr>
        <p:spPr>
          <a:xfrm>
            <a:off x="1599840" y="3505320"/>
            <a:ext cx="3963240" cy="7624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lue more than one word enclose with “quote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 {font-family: “times new roman”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than one declaration separate with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2 {color:yellow;font-style:italic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H="1">
            <a:off x="5866920" y="2589840"/>
            <a:ext cx="1524960" cy="610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4" name="Straight Arrow Connector 6"/>
          <p:cNvCxnSpPr/>
          <p:nvPr/>
        </p:nvCxnSpPr>
        <p:spPr>
          <a:xfrm flipH="1">
            <a:off x="3276360" y="2589840"/>
            <a:ext cx="403920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Straight Arrow Connector 8"/>
          <p:cNvCxnSpPr/>
          <p:nvPr/>
        </p:nvCxnSpPr>
        <p:spPr>
          <a:xfrm flipH="1">
            <a:off x="3351960" y="4419720"/>
            <a:ext cx="4039560" cy="762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ing selectors separate with comma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l, ol {color:orange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nt: used to explain coding, ignored by browser. Helps when code is edited lat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*This is a comment*/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8" name="Oval 1"/>
          <p:cNvSpPr/>
          <p:nvPr/>
        </p:nvSpPr>
        <p:spPr>
          <a:xfrm>
            <a:off x="1171440" y="5322960"/>
            <a:ext cx="38124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4168800" y="5316480"/>
            <a:ext cx="3808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“cascading”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ries of steps, “waterfall” ana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ority by which styles are appli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rowser configuration is default, in absence of style this will be us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ternal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mbedded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line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inherited from more specific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y styles for several different HTML elements , use clas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big {color:blue;font-size:20pt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.small {color:red;font-size:10pt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h1 class=“big”&gt;Text is blue and 20 point&lt;/p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p class=“small”&gt;Text is red and 10 point&lt;/p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4" name="Oval 1"/>
          <p:cNvSpPr/>
          <p:nvPr/>
        </p:nvSpPr>
        <p:spPr>
          <a:xfrm>
            <a:off x="914400" y="3809880"/>
            <a:ext cx="15228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y style for a single, unique element, use 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#big {font-size:72pt; text-align:center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html tag that uses id=“big” will have the style rule above appli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Oval 1"/>
          <p:cNvSpPr/>
          <p:nvPr/>
        </p:nvSpPr>
        <p:spPr>
          <a:xfrm>
            <a:off x="885960" y="3076560"/>
            <a:ext cx="3045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55:40Z</dcterms:created>
  <dc:creator>Owner</dc:creator>
  <dc:description/>
  <dc:language>en-US</dc:language>
  <cp:lastModifiedBy>Paige Haney</cp:lastModifiedBy>
  <dcterms:modified xsi:type="dcterms:W3CDTF">2012-12-10T14:39:54Z</dcterms:modified>
  <cp:revision>31</cp:revision>
  <dc:subject/>
  <dc:title>Cascading Style Sheets</dc:title>
</cp:coreProperties>
</file>